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BB96-9752-427E-B59D-760D1A7D1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76C7-8D40-4A78-84A0-B5F118949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AF00-6B1A-4F89-8C83-C16DA61D3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7577-8D81-4981-B278-52FA459F4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5B91-0CB1-42D5-8FF1-5FC84F2E9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83A0-CBA9-4283-A7B7-DCA744B0D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E697-CBF9-436B-BEF6-BE8F229A9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1A35-9641-4CF7-B722-4A82A79AC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7FC6-7A0D-451E-941D-D5D81DC1A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D8A2-9067-4AA1-ADCF-093DA7111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6C43-07EF-49A6-84F1-19AF4A6E9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9143-5903-4079-8391-FB039F483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130A-056F-43F9-A848-08053519318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teachfuture/eva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560" y="377172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redarea în societatea cunoaşteri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06400" y="49622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Modulul 8: </a:t>
            </a:r>
            <a:r>
              <a:rPr b="0" lang="ro-RO" sz="3600" spc="-1" strike="noStrike">
                <a:solidFill>
                  <a:srgbClr val="ffffff"/>
                </a:solidFill>
                <a:latin typeface="Verdana"/>
              </a:rPr>
              <a:t>Prezentarea portofoliilor Unităţilor de Învăţa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54520" y="196920"/>
            <a:ext cx="4170240" cy="15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ea 4: Evaluarea cursului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20 minute)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89640" y="1828800"/>
            <a:ext cx="444024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letarea evaluării onli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rmaţi instrucţiunile  de la pagina 8.13, pentru a evalua cursul Intel®Teach - Predarea în societatea cunoaşteri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teachfuture/eval</a:t>
            </a:r>
            <a:r>
              <a:rPr b="0" lang="ro-RO" sz="1600" spc="-1" strike="noStrike">
                <a:solidFill>
                  <a:srgbClr val="003399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D-ul clasei: ___________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34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D-ul profesor master: ___________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Notă: Evaluarea include mai multe pagini. Nu veţi putea apăsa butonul Back, pentru a modifica răspunsur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1258920" indent="0" algn="just"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84520" cy="599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9340-B6DF-4811-95A0-6E3FD27297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760" y="53640"/>
            <a:ext cx="4294440" cy="12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5: Finalizarea cursulu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25 minute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1120" y="1704960"/>
            <a:ext cx="41738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Revizuirea Modululu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(8.1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trebările modululu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pregăti şi cum pot facilita o prezentare eficientă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oferi feedback constructiv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uncte-cheie ale Modulului 8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trategii pentru administrarea utilizării calculatoarelor şi pentru elaborarea unor documente utile pentru implementarea unităţii de învăţ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venimente - cum ar fi o prezentare - care permit comunităţii largi să ofere feedback elevilor şi să sărbătorească realizările acestora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52840" y="0"/>
            <a:ext cx="4691160" cy="601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D82A-FA29-4624-B7DC-25664D7ADF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3120" y="1228320"/>
            <a:ext cx="863136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Reflecţie asupra cursulu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8.14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 algn="just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aţi răspunde la întrebarea esenţială a cursulu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aa014c"/>
                </a:solidFill>
                <a:latin typeface="Verdana"/>
              </a:rPr>
              <a:t>Cum poate fi cel mai eficient folosită tehnologia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7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aa014c"/>
                </a:solidFill>
                <a:latin typeface="Verdana"/>
              </a:rPr>
              <a:t>pentru a susţine şi a evalua achiziţiile elevilor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blog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-ul personal, reflectaţi asupra activităţilor, asupra abilităţilor şi abordărilor discutate în acest modul şi în întregul cur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uaţi în considerare întrebări precum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1352520" indent="-3236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mă pot pregăti şi cum pot facilita o prezentare eficientă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52520" indent="-3236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oferi feedback constructiv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52520" indent="-3236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are consideraţi că este cel mai valoros element al cursului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52520" indent="-3236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vă influenţează pregătirea primită practicile de predar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52520" indent="-3236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in tot ce aţi învăţat, ce anume credeţi că va avea cel mai mare impact asupra activităţilor de învăţare a 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6496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5: Finalizarea cursului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4D68-8A35-450B-8A39-DF4063EB3E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360" y="4437000"/>
            <a:ext cx="2787480" cy="114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513480" y="4548240"/>
            <a:ext cx="2263680" cy="1130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496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5: Finalizarea cursului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3560" y="1047240"/>
            <a:ext cx="8475480" cy="46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3: Încheierea cursulu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siguraţi-vă că aveţi toate fişierele şi materialele cursului de formare Intel</a:t>
            </a:r>
            <a:r>
              <a:rPr b="0" lang="ro-RO" sz="18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Teach – Predarea în societatea cunoaşteri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aa014c"/>
                </a:solidFill>
                <a:latin typeface="Verdana"/>
              </a:rPr>
              <a:t>Felicitări pentru terminarea cu succes a cursului de formare </a:t>
            </a:r>
            <a:r>
              <a:rPr b="1" lang="ro-RO" sz="2400" spc="-1" strike="noStrike">
                <a:solidFill>
                  <a:srgbClr val="aa014c"/>
                </a:solidFill>
                <a:latin typeface="Verdana"/>
              </a:rPr>
              <a:t>Intel</a:t>
            </a:r>
            <a:r>
              <a:rPr b="1" lang="ro-RO" sz="2400" spc="-1" strike="noStrike" baseline="30000">
                <a:solidFill>
                  <a:srgbClr val="aa014c"/>
                </a:solidFill>
                <a:latin typeface="Verdana"/>
              </a:rPr>
              <a:t>®</a:t>
            </a:r>
            <a:r>
              <a:rPr b="1" lang="ro-RO" sz="2400" spc="-1" strike="noStrike">
                <a:solidFill>
                  <a:srgbClr val="aa014c"/>
                </a:solidFill>
                <a:latin typeface="Verdana"/>
              </a:rPr>
              <a:t>Teach - Predarea în societatea cunoaşterii</a:t>
            </a:r>
            <a:r>
              <a:rPr b="0" lang="ro-RO" sz="2400" spc="-1" strike="noStrike">
                <a:solidFill>
                  <a:srgbClr val="aa014c"/>
                </a:solidFill>
                <a:latin typeface="Verdana"/>
              </a:rPr>
              <a:t>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ă este înmânat un Certificat de participare, pentru a vă recunoaşte eforturi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BAB8-93C0-4322-A2B0-CB8B91F34B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395A-C382-412C-BE15-D703EFD4C8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e am studiat până acum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8040" y="971280"/>
            <a:ext cx="860904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1: Predarea bazată pe proiec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Bazele învăţării prin proiecte şi design-ul unităţi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2: Planificarea propriei unităţ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zvoltarea întrebărilor de încadrare a curriculumului şi evaluarea continuă centrată pe elev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3 Realizarea conexiunil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ternetul ca suport pentru predare şi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4: Crearea eşantioanelor 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zultatele proiectelor elevilor (prezentări, publicaţii, wiki, blog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5: Evaluarea proiectelor elevil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valuarea formativă şi sumativ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6: Planificarea pentru succesul elev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prijinul elevilor si auto-direcţion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Modul 7: Facilitarea prin Tehnologi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716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ofesorul drept facilitat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E31D-F6D9-450C-A806-6971096738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5200" y="4443480"/>
            <a:ext cx="857736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Modulul 8: Prezentarea portofoliilor unităţilor de învăţa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5399-ABF1-4F1D-B7AC-6167287913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Unde suntem 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2200" y="714240"/>
          <a:ext cx="8510760" cy="3375000"/>
        </p:xfrm>
        <a:graphic>
          <a:graphicData uri="http://schemas.openxmlformats.org/drawingml/2006/table">
            <a:tbl>
              <a:tblPr/>
              <a:tblGrid>
                <a:gridCol w="2506680"/>
                <a:gridCol w="6004080"/>
              </a:tblGrid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ul 8: 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zentarea portofoliilor Unităţilor de Învăţare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Focus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mpărtă</a:t>
                      </a:r>
                      <a:r>
                        <a:rPr b="1" lang="ro-RO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rea învă</a:t>
                      </a:r>
                      <a:r>
                        <a:rPr b="1" lang="ro-RO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rii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 algn="just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ultate:</a:t>
                      </a:r>
                      <a:r>
                        <a:rPr b="0" lang="ro-RO" sz="1900" spc="-1" strike="noStrike">
                          <a:solidFill>
                            <a:srgbClr val="ff5c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 algn="just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naliza aplicării tehnologiei prin metoda proiectului în diferite </a:t>
                      </a: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ităţi de Învăţare</a:t>
                      </a:r>
                      <a:r>
                        <a:rPr b="0" lang="en-US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 algn="just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rea de documente utile pentru managementul </a:t>
                      </a: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ităţii de Învăţare</a:t>
                      </a:r>
                      <a:r>
                        <a:rPr b="0" lang="en-US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 algn="just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zentarea Portofoliului </a:t>
                      </a: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ităţii de Învăţa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 algn="just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valuarea cursului </a:t>
                      </a:r>
                      <a:r>
                        <a:rPr b="0" lang="en-US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ntel</a:t>
                      </a:r>
                      <a:r>
                        <a:rPr b="0" lang="en-US" sz="1900" spc="-1" strike="noStrike" baseline="30000">
                          <a:solidFill>
                            <a:srgbClr val="0860a8"/>
                          </a:solidFill>
                          <a:latin typeface="Verdana"/>
                        </a:rPr>
                        <a:t>®</a:t>
                      </a:r>
                      <a:r>
                        <a:rPr b="0" lang="en-US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Teach P</a:t>
                      </a: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darea în societatea cunoaşterii</a:t>
                      </a:r>
                      <a:r>
                        <a:rPr b="0" lang="ro-RO" sz="19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13920" y="4095360"/>
            <a:ext cx="8534520" cy="191916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trebare esenţial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ate fi cel mai eficient utilizată tehnologia, pentru a susţine şi evalua achiziţiile elevilor 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trebările modulului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pregăti şi cum pot facilita o prezentare eficientă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oferi feedback constructiv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8629-A7D7-462D-A97D-FAB72C061D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85720" y="155520"/>
            <a:ext cx="83232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br>
              <a:rPr sz="1000"/>
            </a:b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Practici Pedagogice: Managementul clasei şi activităţile de predare într-un mediu de învăţare care utilizează tehnologie avansată (8.01)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3120" y="1628640"/>
            <a:ext cx="8637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68200"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iscutaţi: </a:t>
            </a:r>
            <a:r>
              <a:rPr b="1" lang="ro-RO" sz="2100" spc="-1" strike="noStrike">
                <a:solidFill>
                  <a:srgbClr val="0860a8"/>
                </a:solidFill>
                <a:latin typeface="Verdana"/>
              </a:rPr>
              <a:t>Obstacole de trecut în utilizarea tehnologiei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 algn="just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Grupa 1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cele mai bune practici pentru administrarea calculatoarelor într-o clasă activă? Folosiţi întrebările de la pagina 8.01 pentru a vă ghida discuţia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 algn="just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Grupa 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care sunt cele mai bune practici pentru gestionarea folosirii calculatoarelor de către elevi atunci când lucreză într-un laborator. Enumeraţi problemele posibile şi discutaţi strategii care pot fi folosite pentru a preveni sau rezolva fiecare problem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68200" indent="-266760" algn="just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Grupa 3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rapid la metode de administrare, salvare şi transfer al directoarelor, astfel încât elevii să le poată localiza şi accesa indiferent de sistemul de operare sau de programul softw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A70B-B59F-41E8-84E4-989B220A07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1: Utilizarea tehnologiei în instrui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17600" y="1454040"/>
            <a:ext cx="8551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lvl="1" marL="330480" indent="-329040" algn="just"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 Planificarea administrării resurselor tehnologice în contextul activităţilor de învăţare (8.0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30480" indent="-329040" algn="just">
              <a:buClr>
                <a:srgbClr val="0860a8"/>
              </a:buClr>
              <a:buSzPct val="125000"/>
              <a:buFont typeface="Times"/>
              <a:buChar char="•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e modalităţi de sprijin puteţi oferi elevilor pentru valorificarea resurselor tehnologice în activităţile din cadrul proiectelor? Ce elemente sau documente ar facilita implementarea unităţii de învăţare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30480" indent="-329040" algn="just"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8640" indent="-311040" algn="just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nalizaţi exemplele de documente de administrare din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Modulul 8, Activitatea 1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, de pe CD-ul cu resurse curricul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8640" indent="-311040" algn="just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cesaţi site-uri web pentru ponturi şi idei despre managementul calculatoarelor (opţional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8640" indent="-311040" algn="just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aţi putea încorpora aceste idei sau resurse într-o unitate de învăţare sau în procesul de instrui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8640" indent="-311040" algn="just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AutoNum type="arabicPeriod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e elemente sau ce documente aţi putea elabora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30480" indent="-3290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30480" indent="-329040" algn="just"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 Elaborarea documentelor de administrare (8.04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30480" indent="-329040" algn="just">
              <a:buClr>
                <a:srgbClr val="0860a8"/>
              </a:buClr>
              <a:buSzPct val="125000"/>
              <a:buFont typeface="Times"/>
              <a:buChar char="•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laboraţi sau revizuiţi documentele de administrare de pe CD-ul cu resurse curriculare pentru unitatea de învăţare şi salvaţi aceste documente în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Asistenţă_unita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in Portofoliul persona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30480" indent="-329040" algn="just"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86F7-E8F1-4748-8146-D73546F59B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: Planificarea unei prezentări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30 min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3308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 algn="just">
              <a:spcBef>
                <a:spcPts val="901"/>
              </a:spcBef>
              <a:buNone/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Prezentarea proiectelor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8.05–8.06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 algn="just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uteţi folosi evenimente cum ar fi o expoziţie de proiecte, pentru a permite comunităţii care participă să ofere feedback elevilor şi să sărbătorească realizările lo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 algn="just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losind ideile de metode prezentate la pagina 8.05 discutaţi următoarele întrebări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 algn="just">
              <a:spcBef>
                <a:spcPts val="400"/>
              </a:spcBef>
              <a:buNone/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 Care dintre următoarele idei de prezentare ar putea fi cel mai uşor încorporate în instruir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 algn="just">
              <a:spcBef>
                <a:spcPts val="400"/>
              </a:spcBef>
              <a:buNone/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2. De ce aţi avea nevoie pentru a pregăti elevii pentru o prezentar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 algn="just">
              <a:spcBef>
                <a:spcPts val="400"/>
              </a:spcBef>
              <a:buNone/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3. Cum îi puteţi ajuta pe elevi să ofere feedback constructiv coleg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 algn="just">
              <a:spcBef>
                <a:spcPts val="400"/>
              </a:spcBef>
              <a:buNone/>
              <a:tabLst>
                <a:tab algn="l" pos="0"/>
                <a:tab algn="l" pos="115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4. Ce strategii aţi putea folosi pentru a vă asigura că elevii folosesc feedback-ul primit de la colegi, precum şi propriile evaluări, pentru a-şi îmbunătăţi activitatea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F3A3-72C3-4983-A7B4-6C97648A44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31560" y="352080"/>
            <a:ext cx="86216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Pregătirea pentru prezentarea portofoliulu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(8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Opţiunea 1: Folosirea Wiki pentru prezentarea portofoliului dvs.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8.07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 Mergeţi la pagina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wik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____________________ şi conectaţi-v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2. Creaţi pagina de prezentare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wik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, urmărind recomandările de la pagina 8.07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3. Aveţi mai multe posibilităţi de a primi feedback în timp ce prezentaţi portofoliul unităţii, alegeţi una din sugestiile de la paginile 8.07-8.0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Opţiunea 2: Crearea unui portofoliu electronic offlin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8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 Deschideţi formatul de prezentare "Portofoliu electronic" din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Modulul 8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Activitatea 2,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 pe CD-ul cu resurse curricul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2. Urmaţi instrucţiunile de pe prima listă pentru a lega prin hyperlink fiecare intr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subtitlu) de directorul corespunzător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12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Planul unităţ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12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valuarea sumativ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12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xemple ale activităţii elevilor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12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Suport pentru elevi sau resurse de facilit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120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•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Orice alte documente pe care aţi dori să le împărtăşiţi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3. Adăugaţi texte şi legături suplimentare, dacă este nevoi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4. Salvaţi prezentarea în nivelul superior al directorului dumneavoastră "Portofoliu"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0079-C4D3-414C-9BCD-23B3490411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73080"/>
            <a:ext cx="817056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Modul 8: Prezentarea portofoliilor unităţilor de învăţ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2600"/>
            </a:b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3: Prezentarea portofoliului Unităţi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 oră, 50 de minute)</a:t>
            </a:r>
            <a:br>
              <a:rPr sz="1600"/>
            </a:b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6160" y="1342800"/>
            <a:ext cx="873612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copul acestei prezentări este de a împărtăşi produsele finale cu colegii şi de a vedea ce au elaborat ei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asemenea, puteţi să oferiţi şi să primiţi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feedback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u privire la punctele principale ale portofoliilor şi la aspectele pe care le puteţi îmbunătăţ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furniza feedback la o prezentare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wik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, puteţi folosi una dintre următoarele meto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Notaţi ideile pe sub-pagina wiki a celui care prezintă, folosind reţeta de la pagina 8.09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nsemnaţi reacţiile în document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Formular de feedback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in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Modulul 8, Activitatea 3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 pe CD-ul cu resurse curriculare, asupra prezentării şi apoi încărcaţi-l pe pagina wiki a celui care prezint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rmaţi legătura din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wik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 celui care prezintă la pagina de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blog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i furnizaţi feedback drept răspuns la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blo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mpletaţi un formular tipărit de feedback asupra prezentării, luat din manual sau tipărit din directo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Modulul 8, Activitatea 3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 pe CD-ul cu resurse curricul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656C-47E8-4094-8D9C-0017BFBC65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Claudia</cp:lastModifiedBy>
  <cp:lastPrinted>2006-11-14T00:45:04Z</cp:lastPrinted>
  <dcterms:modified xsi:type="dcterms:W3CDTF">2007-08-21T12:01:24Z</dcterms:modified>
  <cp:revision>142</cp:revision>
  <dc:subject/>
  <dc:title>Presentation Title Goes Here</dc:title>
</cp:coreProperties>
</file>